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235A8-C222-4C9E-A7DB-2655A83AE83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genre is a ‘type’ of film. Take a moment or two to name as many film types as you can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enre is a ‘type’ of film. Take a moment or two to name as many film types as you ca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7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8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9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9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1. And finally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 And finally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haps you thought of the following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sterns, Spaghetti Westerns, War films, Thrillers, Sci-Fi, Rom Coms, ‘Chick’ flicks, Foreign films, Musicals, Comedies, Anim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 take a little longer and try to name at least one movie for each of these categorie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haps you thought of 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erns, Spaghetti Westerns, War films, Thrillers, Sci-Fi, Rom Coms, ‘Chick’ flicks, Foreign films, Musicals, Comedies, Ani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take a little longer and try to name at least one movie for each of these categorie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id you do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 look at the pictures on the following slides. They each represent a particular type, or genre of movie. Can you fit the genre to the pictur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you do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ook at the pictures on the following slides. They each represent a particular type, or genre of movie. Can you fit the genre to the pictu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 to finish off, write down your favourite genre of movie, and briefly say what it is about this type of movie that you lik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to finish off, write down your favourite genre of movie, and briefly say what it is about this type of movie that you lik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4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5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6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4E4F-1A78-4AE4-A729-3F2A6284F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A589-742F-4DAD-8839-7B26FE95B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9E4A-ECC0-4054-9D8D-E36E9F0C6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FA9D-F86D-465B-AF80-A8FD84E3F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05669-BD12-41FF-AF50-35EB39710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21B9D-3B71-4808-9A99-0AB133C59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C6FBA-6E92-4930-96B5-3D6EC0CE0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54FAD-380C-4EE1-BE96-AE753731E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35D3A-EDF3-4BA5-A49C-457CFE9FC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D8151-3C8F-4C8C-BD79-CFDCE0901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CCC8A-C78C-4EE5-A3EB-57D10D54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DDDD-AE67-4794-A2AB-7B5F2D6D7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3AD73-FAFE-470D-96CC-6794FCCE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6341A-E2D9-4844-BCF1-5ED0BA68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A1D48-BB5B-491B-B96D-788A1F685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39CCA-5355-4BC2-AECB-DB7A8D09F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05698-1605-4A88-9F18-8D822DE25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E7B7-4AC6-467B-B3D7-284E12743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0161-4920-4343-8344-71BCDD3FB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15AF-5694-41C8-A54F-D09C91918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E624-EA8A-488D-897C-C7DEADC6B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1111-148B-4D1D-B062-0FA06E42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F363-54AA-44BB-9413-93916811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D150-48D8-40AC-9EFD-09628984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74DA9-EC9D-47B0-A002-F1BF0F63EDA2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B2815-9B29-4AB3-909E-E2A80BE49DF1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4360" y="-38736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32000" y="1197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genre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is a ‘type’ of film. Take a moment or two to name as many film types as you ca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5" descr="movies-interior"/>
          <p:cNvPicPr/>
          <p:nvPr/>
        </p:nvPicPr>
        <p:blipFill>
          <a:blip r:embed="rId1"/>
          <a:stretch/>
        </p:blipFill>
        <p:spPr>
          <a:xfrm>
            <a:off x="1619280" y="2781360"/>
            <a:ext cx="6048360" cy="35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7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5" descr="Poster_Sets_25~Horror-Films-Posters"/>
          <p:cNvPicPr/>
          <p:nvPr/>
        </p:nvPicPr>
        <p:blipFill>
          <a:blip r:embed="rId2"/>
          <a:stretch/>
        </p:blipFill>
        <p:spPr>
          <a:xfrm>
            <a:off x="1476360" y="1413000"/>
            <a:ext cx="358920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8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5" descr="la-grande-bouffe-movie-poster12"/>
          <p:cNvPicPr/>
          <p:nvPr/>
        </p:nvPicPr>
        <p:blipFill>
          <a:blip r:embed="rId2"/>
          <a:stretch/>
        </p:blipFill>
        <p:spPr>
          <a:xfrm>
            <a:off x="1476360" y="1628640"/>
            <a:ext cx="3552840" cy="45244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418pxTodo_sobre_mi_madre_poster"/>
          <p:cNvPicPr/>
          <p:nvPr/>
        </p:nvPicPr>
        <p:blipFill>
          <a:blip r:embed="rId3"/>
          <a:stretch/>
        </p:blipFill>
        <p:spPr>
          <a:xfrm>
            <a:off x="5292720" y="1628640"/>
            <a:ext cx="304632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9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5" descr="dfmp_0204_great_escape_1963"/>
          <p:cNvPicPr/>
          <p:nvPr/>
        </p:nvPicPr>
        <p:blipFill>
          <a:blip r:embed="rId2"/>
          <a:stretch/>
        </p:blipFill>
        <p:spPr>
          <a:xfrm>
            <a:off x="324000" y="2133720"/>
            <a:ext cx="84945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9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5" descr="mamma-mia-soundtrack"/>
          <p:cNvPicPr/>
          <p:nvPr/>
        </p:nvPicPr>
        <p:blipFill>
          <a:blip r:embed="rId2"/>
          <a:stretch/>
        </p:blipFill>
        <p:spPr>
          <a:xfrm>
            <a:off x="2268360" y="1628640"/>
            <a:ext cx="4608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5" descr="appleseed-movie-poster"/>
          <p:cNvPicPr/>
          <p:nvPr/>
        </p:nvPicPr>
        <p:blipFill>
          <a:blip r:embed="rId2"/>
          <a:stretch/>
        </p:blipFill>
        <p:spPr>
          <a:xfrm>
            <a:off x="2700360" y="1413000"/>
            <a:ext cx="354816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1. And finally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5" descr="24-403"/>
          <p:cNvPicPr/>
          <p:nvPr/>
        </p:nvPicPr>
        <p:blipFill>
          <a:blip r:embed="rId2"/>
          <a:stretch/>
        </p:blipFill>
        <p:spPr>
          <a:xfrm>
            <a:off x="3132000" y="1628640"/>
            <a:ext cx="3289320" cy="49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erhaps you thought of the followin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esterns, Spaghetti Westerns, War films, Thrillers, Sci-Fi, Rom Coms, ‘Chick’ flicks, Foreign films, Musicals, Comedies, Anim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Now take a little longer and try to name at least one movie for each of these categories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5" descr="Frank_Mummy"/>
          <p:cNvPicPr/>
          <p:nvPr/>
        </p:nvPicPr>
        <p:blipFill>
          <a:blip r:embed="rId4"/>
          <a:stretch/>
        </p:blipFill>
        <p:spPr>
          <a:xfrm>
            <a:off x="2556000" y="3500280"/>
            <a:ext cx="419076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How did you do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ow look at the pictures on the following slides. They each represent a particular type, or genre of movie. Can you fit the genre to the pictur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5" descr="pf2149"/>
          <p:cNvPicPr/>
          <p:nvPr/>
        </p:nvPicPr>
        <p:blipFill>
          <a:blip r:embed="rId4"/>
          <a:stretch/>
        </p:blipFill>
        <p:spPr>
          <a:xfrm>
            <a:off x="1258920" y="2852640"/>
            <a:ext cx="511164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5" descr="MPW-13112"/>
          <p:cNvPicPr/>
          <p:nvPr/>
        </p:nvPicPr>
        <p:blipFill>
          <a:blip r:embed="rId2"/>
          <a:stretch/>
        </p:blipFill>
        <p:spPr>
          <a:xfrm>
            <a:off x="1258920" y="1413000"/>
            <a:ext cx="666756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Now to finish off, write down your favourite genre of movie, and briefly say what it is about this type of movie that you lik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5" descr="bmflklogo"/>
          <p:cNvPicPr/>
          <p:nvPr/>
        </p:nvPicPr>
        <p:blipFill>
          <a:blip r:embed="rId2"/>
          <a:stretch/>
        </p:blipFill>
        <p:spPr>
          <a:xfrm>
            <a:off x="2771640" y="2565360"/>
            <a:ext cx="365148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3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5" descr="B000E6TVRS"/>
          <p:cNvPicPr/>
          <p:nvPr/>
        </p:nvPicPr>
        <p:blipFill>
          <a:blip r:embed="rId2"/>
          <a:stretch/>
        </p:blipFill>
        <p:spPr>
          <a:xfrm>
            <a:off x="2843280" y="1628640"/>
            <a:ext cx="337176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5" descr="2632085546_4e74e8ef89"/>
          <p:cNvPicPr/>
          <p:nvPr/>
        </p:nvPicPr>
        <p:blipFill>
          <a:blip r:embed="rId2"/>
          <a:stretch/>
        </p:blipFill>
        <p:spPr>
          <a:xfrm>
            <a:off x="2556000" y="1700280"/>
            <a:ext cx="38098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5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5" descr="definitelymaybeposter"/>
          <p:cNvPicPr/>
          <p:nvPr/>
        </p:nvPicPr>
        <p:blipFill>
          <a:blip r:embed="rId2"/>
          <a:stretch/>
        </p:blipFill>
        <p:spPr>
          <a:xfrm>
            <a:off x="2700360" y="1341360"/>
            <a:ext cx="38098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6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5" descr="070716_ss_mean"/>
          <p:cNvPicPr/>
          <p:nvPr/>
        </p:nvPicPr>
        <p:blipFill>
          <a:blip r:embed="rId2"/>
          <a:stretch/>
        </p:blipFill>
        <p:spPr>
          <a:xfrm>
            <a:off x="2843280" y="1341360"/>
            <a:ext cx="338436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15:39:22Z</dcterms:created>
  <dc:creator>mikeco</dc:creator>
  <dc:description/>
  <dc:language>en-US</dc:language>
  <cp:lastModifiedBy>RomaK</cp:lastModifiedBy>
  <dcterms:modified xsi:type="dcterms:W3CDTF">2015-09-02T09:53:34Z</dcterms:modified>
  <cp:revision>6</cp:revision>
  <dc:subject/>
  <dc:title>Film Genres</dc:title>
</cp:coreProperties>
</file>